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BE9-ED4C-416B-8D1A-6F44266C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C52-88B5-4E0F-9F42-34866797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668-F9E0-4F7D-854F-5006DA32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487-9AB8-4528-9A38-CBABBE56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803-6E6E-40B5-8403-F3BB9BE4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E08-3AE0-425D-B778-65725A4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EAF-994B-4434-9643-9499D7A9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07B-7BBF-4E3A-94B8-D4F7A5A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419-36A2-4644-9F47-5D68F0F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822-F397-405F-BA2C-6E7E82B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0BA-5DC8-4761-9029-90E8A42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E3B-EB10-49C4-9B89-34B6116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0EB-A2E2-4AC9-8C91-F787D4403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75%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 Revenue Generating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2374920"/>
        </p:xfrm>
        <a:graphic>
          <a:graphicData uri="http://schemas.openxmlformats.org/drawingml/2006/table">
            <a:tbl>
              <a:tblPr/>
              <a:tblGrid>
                <a:gridCol w="1905120"/>
                <a:gridCol w="761760"/>
                <a:gridCol w="609840"/>
                <a:gridCol w="1143000"/>
                <a:gridCol w="990360"/>
                <a:gridCol w="990720"/>
                <a:gridCol w="914400"/>
                <a:gridCol w="9144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Profit/Fee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Profit/Fee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BU reven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Bas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AR06 to 15MAR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 O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actor Software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&amp;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JAN06 to 01JAN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ilant Flame Exerc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P/L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FEB06 to 10FEB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is column sums to 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75%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 Revenue Generating Contr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% of revenue for all contracts in 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the fewest number of contracts here, whose combined % of BU revenue equals 7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L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contracts that meet the follow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iteria (and were therefore subject to corporate oversight according to the authority matrix CO 201 Attach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P &gt; $5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FF, CPAF, T&amp;M, FFP/LOE &gt; $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 below profit/fee thres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AF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FF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FP/LOE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FP/Comp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&amp;M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75%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914400"/>
                <a:gridCol w="914400"/>
                <a:gridCol w="914400"/>
                <a:gridCol w="838080"/>
                <a:gridCol w="16765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E/B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(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Well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 Bas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actor Software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issue – plan to add 3 new develop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ilant Flame Exerc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463840" y="2036880"/>
            <a:ext cx="384120" cy="38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1240" y="2478240"/>
            <a:ext cx="38412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51240" y="292248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24080" y="2514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24080" y="2057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65360" y="2038320"/>
            <a:ext cx="38448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60680" y="247032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56000" y="293688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68960" y="203364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87800" y="2070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67160" y="2455920"/>
            <a:ext cx="384120" cy="384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005440" y="250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9240" y="293220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24400" y="202896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24400" y="2463840"/>
            <a:ext cx="38412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25960" y="2065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31000" y="248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2320" y="294480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10360" y="204156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2459160"/>
            <a:ext cx="38412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16600" y="2484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13600" y="2940120"/>
            <a:ext cx="384120" cy="38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60" y="4095720"/>
            <a:ext cx="46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carried over from previou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/Down arrow indicates direction of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75%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 Ris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ffing issues (G/Y/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e notice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cause (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ative CPAR (Y/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I issues (G/Y/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ing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ay notices for 75% expend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reporting (deliverab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ing timeliness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al/full funding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E/B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ou are in your funding expenditures compared to your negotiated plan and/or contract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 +/- 0-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: +/- 6-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: &gt;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($) – Schedule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($) = BCWP - BCWS or EV –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d in $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0 means ahead of schedule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means on schedule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0 means behind schedule (Y/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V($) – Cost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V($) = BCWP -  ACWP or EV - 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0 means under budget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means on budget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0 means over budget (Y/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Wel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you are addressing your performanc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18:14Z</dcterms:created>
  <dc:creator>Barry Krauss</dc:creator>
  <dc:description/>
  <dc:language>en-US</dc:language>
  <cp:lastModifiedBy>Debbie Thurman</cp:lastModifiedBy>
  <dcterms:modified xsi:type="dcterms:W3CDTF">2006-10-31T20:57:44Z</dcterms:modified>
  <cp:revision>28</cp:revision>
  <dc:subject/>
  <dc:title>Slide 1</dc:title>
</cp:coreProperties>
</file>